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FAB-973D-4ECC-970C-CA483764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D14-2E83-458D-93B5-E6CBE5BC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BB4-2166-4550-8FC3-FD9FE7C3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5F1-3DAE-4CF8-96D9-87EEBA9F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21BE-9EDE-4F8C-B55C-BA9B4471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89F8-0CB3-48C5-97F0-2127625D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7347-564F-4701-AC00-A874F0B8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9C2-AC96-43FC-A85B-DE6ECCE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4EC0-D61E-414E-931C-8C17932E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542-DC4E-432C-A685-FDF06200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2A17-8A9F-4D07-92AF-5354837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716-FDC3-4BB9-AA38-EA790FE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F8D-ACA2-4F72-9F72-222FCFCC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ED6D-69D7-4A6C-A7AA-129FFCF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734C-FB8D-4FB7-AAEE-FF2ED9D1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6C7-1293-4705-A80E-917D58FC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7F10-2CDA-462A-9AE1-30D9D09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0B91-03D7-4018-9CCF-4AE0151C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B076-5E77-4C9B-8F68-12F4D541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13C5-F0EF-4E50-8AA7-7E127697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B012-5A16-45D2-BBB2-620344F4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B335-AC0D-46F3-A14A-8F163B0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BC0-4BEC-44C4-B5E6-8A77A60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6DB2-90F8-4E8C-88A9-92F5C54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F83B-B2A3-4B5C-84EA-07E82B9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CA96-4DCA-4B65-9678-C04844A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83A7-1A80-44F7-8BE6-9AA76FA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C71E-273F-447D-80E8-D3590E6E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713A-685A-40C1-A91D-6AB7F7A9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66C6-2F69-4293-827F-45CC6066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907D-0688-406B-A5BB-BD29982F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7E7E-18F8-4998-B2EE-22181312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5C80D-7C2A-4C02-A222-36B85CE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2B8-0080-4DF6-B77E-A96E72B8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4AC9-69F6-41EA-8C70-FB4D1AF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DBBD-AD11-415F-BD4D-B117A84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5014-6F3D-49E5-9D32-2C1B8B31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DC0F-DF7D-47EA-9583-6653B2C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B28A-5C0B-4642-A5CD-FF622FE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5999-33EE-407B-BF37-A480F26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1F3C-D4DC-4553-B05E-30BECB80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9404-DD2F-43E1-959E-BFB90CE0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26C3-9F2E-4022-B892-CD8A5C70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50C1A-5595-4F1E-BBA4-9CB8575C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0D2-19F6-4B5A-A677-7F1B3E6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DD91-F840-4193-B249-7CA175CD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3DAA-C808-48B2-ABA2-8E4E288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3EB2F-3430-4E17-90C1-C2A7DC6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CD8C4-0254-4383-8157-A37814CC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4A5C-5577-4ABC-890A-0C5AD0B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F3F3-4A72-4C8C-8A2E-46E7D57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A603-E5D9-4EE9-8163-DEB523A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6D92-616F-4A48-BBE0-29889CF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A564-E719-4497-A179-AFA24F21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654C-33A8-4A03-A233-D6939797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4F3-6C94-4BE4-928F-B8FB098D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B176-40B8-46E6-81DA-5A36269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0C0-F1DC-4E90-B36D-053D0BA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D65-A208-41A9-AD3B-45414CD9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415-395B-40D1-8E2A-3B87B23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262-C82E-4FA7-AA4E-25FAEB650A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570-F5DD-4E5C-87B4-0E61815F9D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CDD-F474-4B68-AFC9-FCC0472B76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18B6-C9CA-4EB5-B5AD-F7FDCE5696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834-42B6-429E-A037-2E4C2B2BD3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5/6 Spelling Quiz 29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ds containing ou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milk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62864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though he _______ bravely, there were too many attackers for him to handle on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70028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walk _____ the forest, be careful, many strange creatures hide in the undergrowth waiting to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ch ______ do you liv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ould love a_______ for my sn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 zero is calle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windscreen has _______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g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f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roject has made a _____, the solution to the problem i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ake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ke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new shoes from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y bag I have _______ some sweets to shar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6T10:50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