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9BE-AF22-438C-B78B-0E9A0B8A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369B-BC94-4E0D-9CB4-B871A53B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F78-12EB-4527-A1EC-9F38C1EC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04A7-10C1-4E13-8B5C-092DED36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41F3-B231-4AEA-9D4C-93D1BD94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2F90-51BB-454A-BC2E-4C9D9013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6320-DDB0-4327-8156-041CE240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52BF-4EAE-44F6-9C6B-26579EBA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21EF-1C2C-4975-A642-7DB67E97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DE6F-65F6-43DC-B957-17BD99D7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6C5E-5E14-4BAF-8D0C-E7910E1C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978-1969-4BD9-9E00-F70598A4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C3AF-12FD-439A-975B-B3A04B89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D07D-E386-4EB9-B100-EE4F11D8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3F21-917F-429D-8C84-DDFC6998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243D-DA58-4C02-BC1E-868BBE30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2ABF-3483-4884-ABFF-7311ECBC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3C479-A4F2-472D-AB42-2D673D72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C76F4-1FB4-4CAC-992F-6B247120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5DB26-F6B7-4624-A113-E5EE0768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8E574-BD29-4F14-B4F7-6165A452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3437E-8649-4B84-A5D5-46AB7F6A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127-6E9F-4481-8D12-0D5A7BF5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5A210-2A61-48FB-8A3B-D8F2D8CC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7B26-A3CE-4683-AFBB-3BFD1609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B78EC-C3CC-4D6A-9196-A95C45FB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A48CB-1CD5-4981-BC8C-D6D9BF70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4EAB2-E724-449F-9A82-187FBD2A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5D54F-8BDD-4122-A64C-3DE8AFAD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6325B-6094-4B70-AF3B-6B9C1CEF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D86EC-EB0E-4704-BEBC-BCD563A4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73B11-32D1-4363-BF7A-138FF4DD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7F97C-09A2-4053-9DFE-667BD99B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560-AEEA-42A6-A899-27BB9492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32D5D-321E-4024-8BEF-41AC956D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17C75-433F-458F-B531-81B6C2BA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2D709-F286-49C5-A8A8-177C41EA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56746-EB19-4E74-8A26-DF12CC07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0143F-F2AF-4D82-A9C0-3151D84D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17A64-1EC2-4EC1-97CF-5BD9C8B2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DDF58-D48D-416D-A42B-FF15E45B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20275-8432-47D8-AFF8-2C8C1FC9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44CF1-20C2-4535-B671-1EA9BE0D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4012E-E6BE-422B-A8C3-60382739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E2E-40CE-4026-AF30-EDB7A802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F5BE4-F6F2-40B0-8A16-F04A4CB6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49711-5500-4E16-906A-ABB7021C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E0101-C446-4FFB-B378-E7A74BAA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6A67C-5784-439F-BF86-02F357F1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71F49-DFE3-4AAB-A3B6-023F98FE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2EC3F-0587-4ECB-9EE6-3B87C58B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A436D-2A3D-474B-8EF3-2CF0C7D3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4727B-0B24-49B0-B2C7-F9B9DE0C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DE3EF-0117-413A-B33B-9D06C3CA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4254C-2322-4DAA-A56A-159F4BE9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3BD-0B22-435E-AE5B-2CB99700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AF9AE-3F0C-4945-A157-9CB3ABFA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F95-F51E-4D7B-BC32-EE5A226D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F29-4D2C-405C-B318-96A2A23B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134-C75F-4EC6-A967-85D49D02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© 2020 Anne Pi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C919-0A53-465A-8E89-904E5A0DDFB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E64A-B886-43F4-887D-6BE100BFA28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C148-65B5-4A4F-A054-39ECE75BE53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BF89-40F7-4C8A-A6C5-E243944EE4D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0E8C-011B-4280-95BC-88D2356773E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5/6 Spelling Quiz 29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ds containing oug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have _______ milk for break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no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539640" y="1628640"/>
            <a:ext cx="7993080" cy="155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though he _______ bravely, there were too many attackers for him to handle on hi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o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539640" y="1700280"/>
            <a:ext cx="7993080" cy="155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en you walk _____ the forest, be careful, many strange creatures hide in the undergrowth waiting to at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acher Instruc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PowerPoint is intended as a quick 5-10 minute activ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ildren need no equi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o consolidate the teaching of statutory words or spelling rules or spelling patterns in the week that they are tau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o aid long-tern retention at a distance from the initial inp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ich ______ do you liv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u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r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u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would love a_______ for my sn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ugh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gh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ugh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times zero is called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aw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k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windscreen has _______ g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ugh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uff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uf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uh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roject has made a _____, the solution to the problem is c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ake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eak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aketh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eakth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have _______ new shoes from the 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w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w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my bag I have _______ some sweets to shar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aw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ou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7T11:15:21Z</dcterms:created>
  <dc:creator>Anne</dc:creator>
  <dc:description/>
  <dc:language>en-US</dc:language>
  <cp:lastModifiedBy>Anne</cp:lastModifiedBy>
  <dcterms:modified xsi:type="dcterms:W3CDTF">2021-05-26T10:50:40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