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D463-3B10-480E-9676-585E0F6F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BCDA-C3EC-49E2-AEC5-7A2B76AA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B52A-7192-4ADD-B42F-D66566E7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AD1B-50D6-4B4B-9E6C-08053FEC4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D8E2-9B9F-439A-9750-05298647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B261-2462-4395-AEF3-282583EF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1F03-383E-403D-AE50-8637DCFD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4547-F8EB-493A-A5B9-63DFE07C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6FA6-8236-4C45-A00B-2A72EF83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3681-7BC1-4F30-A1A8-716981D9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7E16-90F3-4221-A9D3-98A92928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3121-5EEC-486D-924E-299A1CC9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9C2A-5EB9-4D83-A215-E6C2AB49A81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4702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S2 Gramm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itle 1"/>
          <p:cNvSpPr/>
          <p:nvPr/>
        </p:nvSpPr>
        <p:spPr>
          <a:xfrm>
            <a:off x="719280" y="3213000"/>
            <a:ext cx="7705440" cy="201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5 To use brackets, dashes or commas to indicate parenthes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ctivity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dashes to add extra information to these sent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waited for a long tim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ddenly, the monster appear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fter a while, the storm pass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r Jones helped m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ctivity 2 – suggested answ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waited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– in the gloomy darkness -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long tim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ddenly, the monster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– the ugliest monster he had ever seen 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ppear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fter a while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– several days -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storm pass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r Jones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– my next door neighbour -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ed m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ommas for parenthesi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a relative clause is placed in the middle of a sentence, commas are used to surround the extra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2060"/>
                </a:solidFill>
                <a:latin typeface="Comic Sans MS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2060"/>
                </a:solidFill>
                <a:latin typeface="Comic Sans MS"/>
              </a:rPr>
              <a:t>Josh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who was nearly 11, </a:t>
            </a:r>
            <a:r>
              <a:rPr b="0" lang="en-GB" sz="2800" spc="-1" strike="noStrike">
                <a:solidFill>
                  <a:srgbClr val="002060"/>
                </a:solidFill>
                <a:latin typeface="Comic Sans MS"/>
              </a:rPr>
              <a:t>wanted his own pho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2060"/>
                </a:solidFill>
                <a:latin typeface="Comic Sans MS"/>
              </a:rPr>
              <a:t>The cottage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where the strange man lived,</a:t>
            </a:r>
            <a:r>
              <a:rPr b="0" lang="en-GB" sz="2800" spc="-1" strike="noStrike">
                <a:solidFill>
                  <a:srgbClr val="002060"/>
                </a:solidFill>
                <a:latin typeface="Comic Sans MS"/>
              </a:rPr>
              <a:t> had vanish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ctivity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commas to add extra information to these sent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shop sold ice crea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rry scored a goa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r Khan owned a sho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book has great pictur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 Wednesday I will go shopp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ctivity 3 – suggested answ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hop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which is by the cafe,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ld ice cre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arry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who is our goalkeeper,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cored a goa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r Khan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who is very hard-working,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wned a sho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book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which I bought,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as great pictur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Wednesday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in the morning,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 will go shopp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ading Challe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ook in your reading book and find different examples of how brackets; dashes and commas have been used for parenthe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ive children an extract from the class book to find examples of pare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Users\Anne\AppData\Local\Microsoft\Windows\INetCache\IE\3U36EK8K\magnifying-41355_960_720[1].png"/>
          <p:cNvPicPr/>
          <p:nvPr/>
        </p:nvPicPr>
        <p:blipFill>
          <a:blip r:embed="rId1"/>
          <a:stretch/>
        </p:blipFill>
        <p:spPr>
          <a:xfrm>
            <a:off x="5940360" y="4221000"/>
            <a:ext cx="2022480" cy="1486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Anne\AppData\Local\Microsoft\Windows\INetCache\IE\PSC3UJGR\book-2022464_640[1].png"/>
          <p:cNvPicPr/>
          <p:nvPr/>
        </p:nvPicPr>
        <p:blipFill>
          <a:blip r:embed="rId2"/>
          <a:stretch/>
        </p:blipFill>
        <p:spPr>
          <a:xfrm>
            <a:off x="826920" y="3735360"/>
            <a:ext cx="2160720" cy="2112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riting Challeng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the picture below to write a paragraph which uses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bracket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for parenthe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2724120" y="3716280"/>
            <a:ext cx="3695760" cy="2505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riting Challenge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the picture below to write a paragraph which uses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bracket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for parenthe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2" descr="Avalanche, Mount Everest, Snow"/>
          <p:cNvPicPr/>
          <p:nvPr/>
        </p:nvPicPr>
        <p:blipFill>
          <a:blip r:embed="rId1"/>
          <a:stretch/>
        </p:blipFill>
        <p:spPr>
          <a:xfrm>
            <a:off x="2666880" y="3645000"/>
            <a:ext cx="3811680" cy="2860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riting Challenge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the picture below to write a paragraph which uses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bracket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for parenthe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" name="Picture 2" descr="Iceberg, Antarctica, Polar, Blue, Ice"/>
          <p:cNvPicPr/>
          <p:nvPr/>
        </p:nvPicPr>
        <p:blipFill>
          <a:blip r:embed="rId1"/>
          <a:stretch/>
        </p:blipFill>
        <p:spPr>
          <a:xfrm>
            <a:off x="2857680" y="3933720"/>
            <a:ext cx="3429000" cy="2349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riting Challenge 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the picture below to write a paragraph which uses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ash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for parenthe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2" descr="Friends, Lost, People Talking"/>
          <p:cNvPicPr/>
          <p:nvPr/>
        </p:nvPicPr>
        <p:blipFill>
          <a:blip r:embed="rId1"/>
          <a:stretch/>
        </p:blipFill>
        <p:spPr>
          <a:xfrm>
            <a:off x="2859120" y="3933720"/>
            <a:ext cx="3425760" cy="2279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acher Instruc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PowerPoint and activities are designed to be a bank of resources which can be used to suit the needs of your cla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owerPoint should be used in se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ach section contains whole-class input with activities; group and paired activities and independent activ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level of support used is at the class teacher’s discre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riting Challenge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the picture below to write a paragraph which uses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ash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for parenthe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2" descr="https://media.istockphoto.com/photos/car-accident-on-the-freeway-picture-id499229686?b=1&amp;k=6&amp;m=499229686&amp;s=170667a&amp;w=0&amp;h=MEXznwTz0b-KuGRNh85pIywaDbwC-I0XPRQPF4CPJ1A="/>
          <p:cNvPicPr/>
          <p:nvPr/>
        </p:nvPicPr>
        <p:blipFill>
          <a:blip r:embed="rId1"/>
          <a:stretch/>
        </p:blipFill>
        <p:spPr>
          <a:xfrm>
            <a:off x="2873520" y="4005360"/>
            <a:ext cx="3398760" cy="2266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riting Challenge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the picture below to write a paragraph which uses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ash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for parenthe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2" descr="Huskies, Husky, Dogs, Race"/>
          <p:cNvPicPr/>
          <p:nvPr/>
        </p:nvPicPr>
        <p:blipFill>
          <a:blip r:embed="rId1"/>
          <a:stretch/>
        </p:blipFill>
        <p:spPr>
          <a:xfrm>
            <a:off x="2535120" y="3716280"/>
            <a:ext cx="4073760" cy="2838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riting Challenge 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the picture below to write a paragraph which uses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comma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for parenthe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2" descr="Montestrutto, Snow, Piemonte, Italy"/>
          <p:cNvPicPr/>
          <p:nvPr/>
        </p:nvPicPr>
        <p:blipFill>
          <a:blip r:embed="rId1"/>
          <a:stretch/>
        </p:blipFill>
        <p:spPr>
          <a:xfrm>
            <a:off x="2620800" y="3789360"/>
            <a:ext cx="3902400" cy="2365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riting Challenge 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the picture below to write a paragraph which uses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comma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for parenthe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2" descr="Sea, Sand, Coast, Beach, Seashells"/>
          <p:cNvPicPr/>
          <p:nvPr/>
        </p:nvPicPr>
        <p:blipFill>
          <a:blip r:embed="rId1"/>
          <a:stretch/>
        </p:blipFill>
        <p:spPr>
          <a:xfrm>
            <a:off x="2597040" y="3573360"/>
            <a:ext cx="3951360" cy="2617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riting Challenge 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the picture below to write a paragraph which uses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comma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for parenthe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2" descr="Playground, Swing, Slide, School, Fun"/>
          <p:cNvPicPr/>
          <p:nvPr/>
        </p:nvPicPr>
        <p:blipFill>
          <a:blip r:embed="rId1"/>
          <a:stretch/>
        </p:blipFill>
        <p:spPr>
          <a:xfrm>
            <a:off x="2395440" y="3573360"/>
            <a:ext cx="4353120" cy="2901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are bracket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are dash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shes for parenthe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as for parenthe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are bracket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pair of punctuation marks that show that the enclosed information is not vital to the meaning of the sentence, but provides additional inform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The volcano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see diagram above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 spurts lava through its cra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ctivity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ut brackets in these senten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man, Mr James, lived in Lond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ston Martin, a DB9, sped through the villag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Head teacher, Mr Chambers, has a new chair in his offi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Royal National Institute for the Blind, RNIB, is a chari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ctivity 1 - answ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ut brackets in these senten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man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r Jame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lived in Lond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ston Martin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DB9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en-GB" sz="3200" spc="-1" strike="noStrike">
                <a:solidFill>
                  <a:srgbClr val="376092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d through the villag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Head teacher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r Chamber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en-GB" sz="3200" spc="-1" strike="noStrike">
                <a:solidFill>
                  <a:srgbClr val="376092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s a new chair in his offi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Royal National Institute for the Blind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NIB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en-GB" sz="3200" spc="-1" strike="noStrike">
                <a:solidFill>
                  <a:srgbClr val="376092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a chari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are dash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as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a punctuation mark which is a little horizontal line that floats in the middle of a line of tex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as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longer than a hyphe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3826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ash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re used to separate groups of words, not to separate parts of words like a hyphen do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are dash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shes can be used in a variety of way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show interrup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show repet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fore a final com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include extra information - parenthe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ashes for parenth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28640"/>
            <a:ext cx="8229600" cy="482616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 fontScale="99000"/>
          </a:bodyPr>
          <a:p>
            <a:pPr marL="443160" indent="-378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n the same way commas and brackets can be used (to contain extra information)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43160" indent="-37872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Comic Sans MS"/>
              </a:rPr>
              <a:t>When we get there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- if we get there - </a:t>
            </a:r>
            <a:r>
              <a:rPr b="1" lang="en-GB" sz="2400" spc="-1" strike="noStrike">
                <a:solidFill>
                  <a:srgbClr val="0070c0"/>
                </a:solidFill>
                <a:latin typeface="Comic Sans MS"/>
              </a:rPr>
              <a:t>I'll have something to say to him about his dreadful ma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43160" indent="-378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43160" indent="-37872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Comic Sans MS"/>
              </a:rPr>
              <a:t>When we get there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(if we get there)  </a:t>
            </a:r>
            <a:r>
              <a:rPr b="1" lang="en-GB" sz="2400" spc="-1" strike="noStrike">
                <a:solidFill>
                  <a:srgbClr val="0070c0"/>
                </a:solidFill>
                <a:latin typeface="Comic Sans MS"/>
              </a:rPr>
              <a:t>I'll have something to say to him about dreadful ma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43160" indent="-37872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43160" indent="-37872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Comic Sans MS"/>
              </a:rPr>
              <a:t>When we get there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, if we get there, </a:t>
            </a:r>
            <a:r>
              <a:rPr b="1" lang="en-GB" sz="2400" spc="-1" strike="noStrike">
                <a:solidFill>
                  <a:srgbClr val="0070c0"/>
                </a:solidFill>
                <a:latin typeface="Comic Sans MS"/>
              </a:rPr>
              <a:t>I'll have something to say to him about his dreadful map</a:t>
            </a:r>
            <a:r>
              <a:rPr b="1" lang="en-GB" sz="2400" spc="-1" strike="noStrike">
                <a:solidFill>
                  <a:srgbClr val="254061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43160" indent="-378720">
              <a:lnSpc>
                <a:spcPct val="90000"/>
              </a:lnSpc>
              <a:spcBef>
                <a:spcPts val="601"/>
              </a:spcBef>
              <a:buClr>
                <a:srgbClr val="254061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1T14:43:39Z</dcterms:created>
  <dc:creator>Anne</dc:creator>
  <dc:description/>
  <dc:language>en-US</dc:language>
  <cp:lastModifiedBy>Anne</cp:lastModifiedBy>
  <dcterms:modified xsi:type="dcterms:W3CDTF">2021-02-10T13:26:49Z</dcterms:modified>
  <cp:revision>13</cp:revision>
  <dc:subject/>
  <dc:title>Using Brackets and Hyphe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