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835-076E-4CBA-A33F-4EEE74C7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FE3-E1D3-45BB-9CC3-E9479D35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D65-4F86-496E-A49E-0C76046C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4C8-50B1-4D84-94F5-BF17398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1D24-2192-4828-8BA4-892F2F29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A35D-2538-413E-9E00-69C8D780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4236-DA12-4157-A067-534C8C2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0016-0D0B-4D65-A7C1-83AF6CB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4B6C-E10F-4EF6-BC1F-E658C696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AC2-BD66-478B-B7EC-80CB304E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FB08-DA85-4DDB-912E-7DDA054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D1E-4B5D-4302-81A7-484F7AF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BF4-47FA-4AAA-98E3-63F385D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757-29F7-429C-9DBE-77CEDB1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8FF5-A573-4905-BA21-6107821D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A4CD-9BB4-4F5E-A361-FF72BEE4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8509-2B86-4555-AFCC-D028C664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97861-8705-4860-9784-D05D1C90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987C-FFB6-4B9C-8BA2-D364B10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FB7E-F334-4D00-A948-E00AB00F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7237-8B71-421D-A208-C40B4CCB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946E-E39D-4E78-98BB-5C06E76C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B44-0B26-4633-AA81-1184E13E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0028-6634-42C6-A1B5-8ECA3B1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6C1E-12FA-44EB-A4E2-91DA72C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63F5-54D1-4114-AABC-D884AA5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3BBE-6E4D-41B2-B6CF-E225C1A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319E-C0C9-4C29-B9E6-57741974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FB9B-6EAA-48D4-94C1-6593B265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10ED-AC34-4BA7-B43F-73D4CB47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8F24-77E3-420B-B3A8-D4DEF58F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C8DC-5A56-4A51-BBE8-58DCB0F5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3F32B-76B6-42AB-90F4-4ADAEA49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205-8297-427D-A8A4-3F0AE556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3829-9389-4B88-9866-9E1D144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0B05-692F-45F5-8B51-A57BDCD2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056D-A939-44D0-8499-AC8A638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5864-4BE6-4FE6-9732-8D644734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3BF5-BE91-46A2-9449-5FD8D8C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802B-DA43-41D3-B898-67F3002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2C1F-842A-45C0-B3A2-EFC42204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EE58-1ACF-44CD-AD59-A817CE91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3A4A-8292-44A5-9211-6D83446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79C7-1702-4849-A42C-433CAED5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190-8AB5-42E9-9086-A91467E5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D401-44ED-4D24-A34B-BBDF5D6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49E9-8E8F-48E8-8BFB-94DDE3BE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7E5A-B6E9-4DF6-BF19-FCD3AC6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8892-0066-41DF-9CBE-DCADCF78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7685-16F5-42E6-8777-28C7A071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3520-EF97-4DCE-87E8-428C965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242E-3224-482C-B056-2C118664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D2C7-5DBF-4764-80F6-BB144085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B728-1D3E-44B5-8533-0FF6CD0B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144C-5ECE-4585-BA5B-C6D1FC7A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083-EACD-43DC-ABA9-3A6E148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C8E8-7158-4EDA-AEA0-600F6036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8EE-05F9-412A-8B51-EFD4C9D7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952-C36B-4B9A-97C5-FDB6A6C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745-FB82-49EB-A2FE-697D31A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11C-B1EA-4D15-9068-3F2CD6020A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98CA-BC9B-443C-B5DE-3CB3B9CE61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338-6980-489C-858B-026FBFAEAC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E59-1408-45B4-B1C2-0E5B902D5D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822-D838-4D25-9E32-AF8F521101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5/6 Spelling Quiz 29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ds containing ou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milk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62864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though he _______ bravely, there were too many attackers for him to handle on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70028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walk _____ the forest, be careful, many strange creatures hide in the undergrowth waiting to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ch ______ do you liv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ould love a_______ for my sn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 zero is calle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windscreen has _______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g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f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roject has made a _____, the solution to the problem i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ake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ke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new shoes from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y bag I have _______ some sweets to shar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6T10:50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