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2247-8539-4FD7-8C93-36439B04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78F-8F11-4434-AD4C-F8CA5A76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7F74-EB5D-45CF-A687-015E8811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4A06-6168-438B-9BAA-8E73C706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E785-48E2-40EC-9AA7-BA9AAE89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28A4-12A4-4080-B444-A9AF68A6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62DF-0001-4CB6-B29D-CC4DE5E6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7A79-49A5-4BC5-8A97-9850EBD1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9FAB-4213-49EE-A628-59695DE3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36C3-D4BA-4CCE-B704-3220E570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B9CD-1DCE-4953-B3E5-92DDCDFC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77CB-A69E-4CC7-BA79-268FBA2E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0A39-C76A-4FE9-8128-B740C0DD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5ED5-2786-4847-9859-F8A25D88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F125-EB5B-4AD7-8CCB-7057EA6B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B68E-EABF-4022-99A7-31D56463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0073-2899-470B-81B8-95C90C04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88AD3-63EF-40DA-97EB-88EAF68B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D7403-A8FD-4583-A33A-258228B8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EE15D-3BA6-4F44-AD49-A7E3C42B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AC2D4-4F10-416D-AC16-E20F582F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D2ADE-78DB-483A-BC7E-4BA50E9A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CA3-D1F3-4576-B34E-E6A5AAB8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E77F8-8AFD-42EF-80A5-7C019CD6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47004-A1BF-4BD7-A11E-5035E9F9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5644E-28D0-4814-A143-B71A0333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AADF7-D844-49F2-83B6-64C41337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BC059-3621-410D-8033-8B48036E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73651-77C5-4CAC-877B-C436AF5B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1AD20-6A56-4848-8DB8-DDA4AD11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72C3E-33E7-4150-BF8E-4AB213E5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BBD0C-C586-4D8C-9475-1408B2DA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47C7E-E1A8-46EA-8705-11211063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FC1-193E-449E-8880-01116FB0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ABC42-E2BA-498E-AF20-A97C0C87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56FED-23EC-4BB3-AA62-6146E77A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CE989-F532-4A58-841A-C074C1A7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01B6A-B038-4C0B-8DF0-6C753EBD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95488-BFB7-4F04-A560-32FFF234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AA2CC-82EE-41C7-BD7D-B4AC5C8D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48161-F1FF-4128-920F-8C05C5AE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DCCCB-AE01-44E5-B07D-F7BD8CF8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ACF89-14A4-4465-A890-0C54402D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9D1EE-F0AB-4E5D-B1CC-32D5A156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61B9-916E-4F67-AD8D-F352AFE6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4C56F-F01E-448D-93B2-CBBFDED3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769DD-356D-45AA-B459-EBBB7542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C4AD5-70DA-444C-89D2-53E7EB5C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3413D-6D7A-4F2A-8B9C-A3E6261E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83755-2FC2-4AB8-95D6-2555917F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5665B-CFB7-4CDD-B1C3-A4FC236D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5FCA4-D561-4EE7-8C74-7469FBA4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A7D5B-6422-41DC-9B7C-8636AC4A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6F13A-D062-4821-BDF2-284C67C0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45995-23C4-4B93-A26E-B8DCB8D4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DF39-B343-4300-9B5E-44E3EDCC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358C2-9388-432A-96A9-1ACAD8E5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0A2-9B4B-4604-928A-1741E7F6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29A0-5A07-4256-A601-84B9F4F2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BAE7-D957-4736-BBF6-53A21601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© 2020 Anne Pi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F869-BE15-43F1-9D55-517D397B9D4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0EAC-E11D-41F2-B325-22C30CC47B8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9207-00F6-4129-A558-8C01902A0E5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12AE-C37B-4EE1-8786-DDC6889FFB5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7"/>
          <p:cNvSpPr/>
          <p:nvPr/>
        </p:nvSpPr>
        <p:spPr>
          <a:xfrm>
            <a:off x="7315200" y="65372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E60A-175A-40DA-9BF1-14438D32300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3/4 Spelling Quiz 17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dding prefix dis and m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is your _______ to have chosen the scariest drag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sfor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sfore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four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for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I don’t keep hold of my glasses, I know I will _____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s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spla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pla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 you ________ my instru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is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isundu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issundu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iss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acher Instruc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PowerPoint is intended as a quick 5-10 minute activ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ildren need no equip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to consolidate the teaching of statutory words or spelling rules or spelling patterns in the week that they are tau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to aid long-tern retention at a distance from the initial inp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was a thoroughly _______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plea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pleas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ple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pleas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you do not train your dog it will _____ you all th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sob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ssob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ssab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sab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lowly the sun began to ______ over the horiz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sa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ss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ss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s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en you ______ with someone, you should respect their opi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s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sagg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isag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539640" y="1844640"/>
            <a:ext cx="799308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is ______ that I will win the lotte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n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lic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li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und the corner there was a most ____ sight – an enormous doughn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newu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us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hoose the correct spelling to fit in this sente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539640" y="1844640"/>
            <a:ext cx="79930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adly, the girl was _____ because her twin sister had won the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ounded Rectangle 3"/>
          <p:cNvSpPr/>
          <p:nvPr/>
        </p:nvSpPr>
        <p:spPr>
          <a:xfrm>
            <a:off x="97164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m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4"/>
          <p:cNvSpPr/>
          <p:nvPr/>
        </p:nvSpPr>
        <p:spPr>
          <a:xfrm>
            <a:off x="97164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ounded Rectangle 5"/>
          <p:cNvSpPr/>
          <p:nvPr/>
        </p:nvSpPr>
        <p:spPr>
          <a:xfrm>
            <a:off x="5364000" y="501336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h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ounded Rectangle 6"/>
          <p:cNvSpPr/>
          <p:nvPr/>
        </p:nvSpPr>
        <p:spPr>
          <a:xfrm>
            <a:off x="5364000" y="3429000"/>
            <a:ext cx="2808360" cy="122400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n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7T11:15:21Z</dcterms:created>
  <dc:creator>Anne</dc:creator>
  <dc:description/>
  <dc:language>en-US</dc:language>
  <cp:lastModifiedBy>Anne</cp:lastModifiedBy>
  <dcterms:modified xsi:type="dcterms:W3CDTF">2021-05-25T10:35:04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