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F0D-7945-4656-BA3F-D697823A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D75-1D2D-4320-B911-F98FFCDC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83E-0486-41BD-8B14-57B204C2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DD2-94A3-4350-ABD3-07B34AE5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071-7428-4C64-AF24-785FBCF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8FC-6A80-4361-B0A1-454A4930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CAE-85EC-4552-BD59-B893D677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100-9831-495F-87A6-59A4FD51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0E8-AC74-494A-8F3F-A28E5A9F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6E3-96EB-4F85-B7F9-F3BA20E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66A-464C-4811-AB66-03476873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163-D5CA-4094-9A70-13F5DC5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967A-A1D9-4908-92C1-7F442FF08A6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S2 Gramm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719280" y="3213000"/>
            <a:ext cx="7705440" cy="201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4 To use Standard English for verb inf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goed upstai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ent upstai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goed upstai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ent upstairs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- STAND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ere reading my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as reading my 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ere reading my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as reading my book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- STAND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were walking in the forest.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was walking in the fores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were walking in the forest.  -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ANDA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was walking in the fores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done the writing.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did the writing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done the writing.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did the writing. -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TANDAR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write these sentences in Standard Engl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were running along the w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he gotten a new pair of sh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done nothing wr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was chasing the c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seen a gh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has been t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y ain’t play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d weren’t pleased when I breaked the wind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1 - 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write these sentences in Standard Engl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running along the w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air of sho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othing wr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hasing the c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a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gh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een t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ren’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lay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d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sn’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leased when I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rok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window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owerPoint and activities are designed to be a bank of resources which can be used to suit the needs of your c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werPoint should be used in s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section contains whole-class input with activities; group and paired activities and independent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evel of support used is at the class teacher’s discre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write this conversation in Standard Engl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ular Callout 3"/>
          <p:cNvSpPr/>
          <p:nvPr/>
        </p:nvSpPr>
        <p:spPr>
          <a:xfrm>
            <a:off x="395280" y="2781360"/>
            <a:ext cx="2305080" cy="1152360"/>
          </a:xfrm>
          <a:prstGeom prst="wedgeRectCallout">
            <a:avLst>
              <a:gd name="adj1" fmla="val -67916"/>
              <a:gd name="adj2" fmla="val 120342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Hi, I seen that new film last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Callout 4"/>
          <p:cNvSpPr/>
          <p:nvPr/>
        </p:nvSpPr>
        <p:spPr>
          <a:xfrm>
            <a:off x="3564000" y="3429000"/>
            <a:ext cx="2016000" cy="1295280"/>
          </a:xfrm>
          <a:prstGeom prst="wedgeEllipseCallout">
            <a:avLst>
              <a:gd name="adj1" fmla="val 129828"/>
              <a:gd name="adj2" fmla="val 68476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What were it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ular Callout 5"/>
          <p:cNvSpPr/>
          <p:nvPr/>
        </p:nvSpPr>
        <p:spPr>
          <a:xfrm>
            <a:off x="755640" y="4653000"/>
            <a:ext cx="2303640" cy="1152360"/>
          </a:xfrm>
          <a:prstGeom prst="wedgeRectCallout">
            <a:avLst>
              <a:gd name="adj1" fmla="val -67916"/>
              <a:gd name="adj2" fmla="val 120342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I ain’t got a clue! I ain’t a clever clo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Callout 6"/>
          <p:cNvSpPr/>
          <p:nvPr/>
        </p:nvSpPr>
        <p:spPr>
          <a:xfrm>
            <a:off x="3995640" y="5084640"/>
            <a:ext cx="2016360" cy="1297080"/>
          </a:xfrm>
          <a:prstGeom prst="wedgeEllipseCallout">
            <a:avLst>
              <a:gd name="adj1" fmla="val 129828"/>
              <a:gd name="adj2" fmla="val 68476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Was you at the Ode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2 - 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write this conversation in Standard Engl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ular Callout 3"/>
          <p:cNvSpPr/>
          <p:nvPr/>
        </p:nvSpPr>
        <p:spPr>
          <a:xfrm>
            <a:off x="395280" y="2781360"/>
            <a:ext cx="2305080" cy="1152360"/>
          </a:xfrm>
          <a:prstGeom prst="wedgeRectCallout">
            <a:avLst>
              <a:gd name="adj1" fmla="val -67916"/>
              <a:gd name="adj2" fmla="val 120342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Hi, I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saw </a:t>
            </a: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that new film last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Callout 4"/>
          <p:cNvSpPr/>
          <p:nvPr/>
        </p:nvSpPr>
        <p:spPr>
          <a:xfrm>
            <a:off x="3564000" y="3429000"/>
            <a:ext cx="2016000" cy="1295280"/>
          </a:xfrm>
          <a:prstGeom prst="wedgeEllipseCallout">
            <a:avLst>
              <a:gd name="adj1" fmla="val 129828"/>
              <a:gd name="adj2" fmla="val 68476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What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 it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ular Callout 5"/>
          <p:cNvSpPr/>
          <p:nvPr/>
        </p:nvSpPr>
        <p:spPr>
          <a:xfrm>
            <a:off x="755640" y="4653000"/>
            <a:ext cx="2303640" cy="1152360"/>
          </a:xfrm>
          <a:prstGeom prst="wedgeRectCallout">
            <a:avLst>
              <a:gd name="adj1" fmla="val -67916"/>
              <a:gd name="adj2" fmla="val 120342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I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haven’t </a:t>
            </a: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got a clue!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I ‘m not </a:t>
            </a: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a clever clo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Callout 6"/>
          <p:cNvSpPr/>
          <p:nvPr/>
        </p:nvSpPr>
        <p:spPr>
          <a:xfrm>
            <a:off x="3995640" y="5084640"/>
            <a:ext cx="2016360" cy="1297080"/>
          </a:xfrm>
          <a:prstGeom prst="wedgeEllipseCallout">
            <a:avLst>
              <a:gd name="adj1" fmla="val 129828"/>
              <a:gd name="adj2" fmla="val 68476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 you at the Ode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write this conversation in Standard Engl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ular Callout 3"/>
          <p:cNvSpPr/>
          <p:nvPr/>
        </p:nvSpPr>
        <p:spPr>
          <a:xfrm>
            <a:off x="395280" y="2781360"/>
            <a:ext cx="2305080" cy="1152360"/>
          </a:xfrm>
          <a:prstGeom prst="wedgeRectCallout">
            <a:avLst>
              <a:gd name="adj1" fmla="val -67916"/>
              <a:gd name="adj2" fmla="val 120342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Hi, what was you doing afte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Callout 4"/>
          <p:cNvSpPr/>
          <p:nvPr/>
        </p:nvSpPr>
        <p:spPr>
          <a:xfrm>
            <a:off x="3564000" y="3429000"/>
            <a:ext cx="2016000" cy="1295280"/>
          </a:xfrm>
          <a:prstGeom prst="wedgeEllipseCallout">
            <a:avLst>
              <a:gd name="adj1" fmla="val 129828"/>
              <a:gd name="adj2" fmla="val 68476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I were playing 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ular Callout 5"/>
          <p:cNvSpPr/>
          <p:nvPr/>
        </p:nvSpPr>
        <p:spPr>
          <a:xfrm>
            <a:off x="755640" y="4653000"/>
            <a:ext cx="2303640" cy="1152360"/>
          </a:xfrm>
          <a:prstGeom prst="wedgeRectCallout">
            <a:avLst>
              <a:gd name="adj1" fmla="val -67916"/>
              <a:gd name="adj2" fmla="val 120342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I seen you at the pa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Callout 6"/>
          <p:cNvSpPr/>
          <p:nvPr/>
        </p:nvSpPr>
        <p:spPr>
          <a:xfrm>
            <a:off x="3708360" y="4869000"/>
            <a:ext cx="2303640" cy="1512720"/>
          </a:xfrm>
          <a:prstGeom prst="wedgeEllipseCallout">
            <a:avLst>
              <a:gd name="adj1" fmla="val 129828"/>
              <a:gd name="adj2" fmla="val 68476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Where was you? You wasn’t there, was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tivity 3 - answ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write this conversation in Standard Engl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ular Callout 3"/>
          <p:cNvSpPr/>
          <p:nvPr/>
        </p:nvSpPr>
        <p:spPr>
          <a:xfrm>
            <a:off x="395280" y="2781360"/>
            <a:ext cx="2305080" cy="1152360"/>
          </a:xfrm>
          <a:prstGeom prst="wedgeRectCallout">
            <a:avLst>
              <a:gd name="adj1" fmla="val -67916"/>
              <a:gd name="adj2" fmla="val 120342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Hi, what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 you doing afte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Callout 4"/>
          <p:cNvSpPr/>
          <p:nvPr/>
        </p:nvSpPr>
        <p:spPr>
          <a:xfrm>
            <a:off x="3564000" y="3429000"/>
            <a:ext cx="2016000" cy="1295280"/>
          </a:xfrm>
          <a:prstGeom prst="wedgeEllipseCallout">
            <a:avLst>
              <a:gd name="adj1" fmla="val 129828"/>
              <a:gd name="adj2" fmla="val 68476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I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 playing 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ular Callout 5"/>
          <p:cNvSpPr/>
          <p:nvPr/>
        </p:nvSpPr>
        <p:spPr>
          <a:xfrm>
            <a:off x="755640" y="4653000"/>
            <a:ext cx="2303640" cy="1152360"/>
          </a:xfrm>
          <a:prstGeom prst="wedgeRectCallout">
            <a:avLst>
              <a:gd name="adj1" fmla="val -67916"/>
              <a:gd name="adj2" fmla="val 120342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I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aw</a:t>
            </a:r>
            <a:r>
              <a:rPr b="0" lang="en-GB" sz="1800" spc="-1" strike="noStrike">
                <a:solidFill>
                  <a:srgbClr val="002060"/>
                </a:solidFill>
                <a:latin typeface="Comic Sans MS"/>
              </a:rPr>
              <a:t> you at the pa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Callout 6"/>
          <p:cNvSpPr/>
          <p:nvPr/>
        </p:nvSpPr>
        <p:spPr>
          <a:xfrm>
            <a:off x="3708360" y="4869000"/>
            <a:ext cx="2664000" cy="1655640"/>
          </a:xfrm>
          <a:prstGeom prst="wedgeEllipseCallout">
            <a:avLst>
              <a:gd name="adj1" fmla="val 129828"/>
              <a:gd name="adj2" fmla="val 68476"/>
            </a:avLst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Where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 you? You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eren’t</a:t>
            </a: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 there,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were</a:t>
            </a:r>
            <a:r>
              <a:rPr b="0" lang="en-GB" sz="1800" spc="-1" strike="noStrike">
                <a:solidFill>
                  <a:srgbClr val="e46c0a"/>
                </a:solidFill>
                <a:latin typeface="Comic Sans MS"/>
              </a:rPr>
              <a:t>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Standard English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verb inflec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b te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Standard English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English is the correct form of English used in formal speaking or wr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English is often used for speaking or writing for an audience which is unknown to the speaker or wri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verb inflec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b inflections give the tense of a ver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some local areas verb inflections differ from Standard Engl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erb tenses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verb tense indicates when something happe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are 3 main groups of verb tens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erb tenses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 of a verb may vary in dial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I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e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a rat. – non stand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I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a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2060"/>
                </a:solidFill>
                <a:latin typeface="Comic Sans MS"/>
              </a:rPr>
              <a:t>a rat. – standard Engl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gone to b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ent to b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ich is Standar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gone to b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went to bed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- STAND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1:13:16Z</dcterms:created>
  <dc:creator>Anne</dc:creator>
  <dc:description/>
  <dc:language>en-US</dc:language>
  <cp:lastModifiedBy>Anne</cp:lastModifiedBy>
  <dcterms:modified xsi:type="dcterms:W3CDTF">2021-01-27T11:30:21Z</dcterms:modified>
  <cp:revision>5</cp:revision>
  <dc:subject/>
  <dc:title>KS2 Grammar</dc:title>
</cp:coreProperties>
</file>