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4B8970-B580-46D0-85F0-956AA24C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C6ECD8-60B8-4910-93EA-E9F97A31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83668A-E8E6-4F15-9285-BBAC0B5E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2B98E0-7ECF-44EA-89D3-A0921D3F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17311F-CF72-44F8-A8E7-B157A05E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84163B-0D7D-4584-8089-9D4D1AB4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1BEA26-658D-4F75-87B2-B78CC2D3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B8A010-60A7-48BD-9BEE-8BB60AE0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F1C836-CB4B-4301-8AE1-29D2A520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E483C7-C122-43FD-BC3C-DE07A0EB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191876-9C86-49D3-A2BC-FF2975F6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EDE801-67CA-4F86-B1A7-67B17EAA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1BD4B5-D4B1-49FF-ABF1-6997890C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C75F10-1485-42A7-97FF-23225365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CF96CF-9A5C-4DCA-BEF6-D0BD86C3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C912FC-BC0E-49BD-A658-134B3DFD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FD499C-906A-4652-9DE9-16B4CB60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54A282-60BB-4090-A734-1BA813F2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7FA905-A556-4A81-9AE9-8CB1E740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4411EF-0DAC-4EDC-9A33-9BBF6148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A2029B-0431-4452-8E37-2474A4C8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E912D6-A027-4C85-833F-AD7913CA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1ADAA1-914F-4EEA-9499-108F0288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15CFC6-442D-4BBF-91D3-BA3BFF66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DF4376-E085-456B-AE93-9D77EF2B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03D6F0-FC6D-4770-AAC6-71ECAD55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3009AD-1DFC-4B03-93B7-061376E9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357D0D-75BE-48FB-A7CA-0856800E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A1A9F3-6C9E-4956-8058-060D1BF2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A4D6AE-3DA6-4E82-8E6B-AD013412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D6D02-9A7C-48AC-BF33-279BBBBB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935BD8-ABFD-4A5D-AB7C-B6ED940B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A5C9AA-8E57-4B23-B9B0-F5CC215A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A16C33-FFD2-4034-B378-681890EC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E1BF6-7C75-40AF-9F0E-5B99A2D0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7EF31-B59A-411E-91F3-1B874906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A9A79-CE0B-4B42-81D4-17E4CCDE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673E5-F11D-44E5-987E-E5416BB4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24C30-1106-4950-8566-5C54FF64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C458F-E8B6-4622-A336-7457BE09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B4803-A2E0-4BC9-B8B8-B93692A7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237A2-8170-4558-B5A5-F531BEC9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AFD0B-75D9-46C8-B751-DB049933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1AF81-1B76-4775-AE8D-612667B0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A560D-4D6B-4DFE-8BFB-A3CF4131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274FD-7C8E-4CDE-B72E-E709813E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960DB-28F1-480D-A450-68C611C4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5FFAD-ABD5-4420-9C92-A291F2AA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2C8CB-FECF-436E-BEEB-B0DB030A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86603-0DEB-48CA-8210-B5AA110F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FD729-219A-455D-91F3-410E0F2F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FE58B-CE16-49AB-907D-EEFDBE9F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61ED2-8D1F-4733-98D9-22047B22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CB9A8-9FB6-4739-9AC2-EF631975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A25C1-6248-4561-9780-DF464D07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86C45-92CB-4AC3-AAB4-7A4BD215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3721C-122E-4BB1-92B1-1E51C4A3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546D1-6612-4F68-B327-89A3181E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FE924-B41C-4E78-94F5-0F9820EF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DF59AD-80BF-46B0-8054-1406F4AD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30498-ED33-495C-BB50-6F416D34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11835-CDB2-483E-B767-FB7F13CD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082F6-C2CA-450F-9352-2B7ACF5E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5C86F-BC77-47AB-8C44-4A25B72B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DC5F7-6278-4F73-9B0F-73B7A0FD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363CB4-D574-45FF-A9F1-0BC493EA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8518D-695E-4884-A857-1D7D7A62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4D0F5-6C32-4F76-B36C-A1C50D2B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B78014-D4BC-4B79-9C32-D4740020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5CF94-8E34-4232-B40C-BCFB0074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F4DF0-D05B-461F-83C1-2AC14160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040F3-0632-4250-AE86-9C7EACEB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F4E2D-FAD3-491F-97C4-7CF875B5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E8DA7-C0CD-4399-B4A0-2EDB5261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B131C-BEEC-40B1-88BA-BF2DC780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01577-734F-461A-B46E-8731E1EA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679D3-56A7-4854-A7EB-4C382B76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51A531-9E16-486A-A2D9-BF5B968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9B1C9-EFF1-413E-9CF3-545FA8AB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CBEAB8-6C55-472B-BCA6-33E08606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207C9-2103-407A-BBA1-DCB8C7D9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7C04C-B718-49BC-8264-B137821C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A94B4C-1588-4D02-AC16-1DD75100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483DEA-8C1F-4DE4-BE0C-901AA519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B82B9-49D3-4245-9998-92390DD5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33539-ED17-40BD-941E-D1E7659F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A1B314-9ED7-4BA7-867F-0EF01BC3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5C1EFC-D4D8-4387-96DC-B86697F2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BAA1DE-D9C2-49EA-B495-6608363F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C50A1-06AC-485A-9905-1F4EFF76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016F5-15A1-4B3F-AA2D-BF825D9B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3DF7DF-7582-4F39-BA08-566198D9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047AD-8CD2-44F4-9914-B183D1CB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AABF80-863D-467C-AAE6-0F8D64D1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41ECE-40F5-4902-A227-9596A877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910139-1EE7-4BDF-8805-3D1BF050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BDAB6-2B6A-4ABB-ABE1-70CF9440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0CE6C7-3E9C-4816-884D-DE429594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E3CB59-B8FC-4942-9723-A0B96A42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E32204-9862-4222-98C3-D83D3103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BADC59-09ED-4397-9197-66837AB3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240BB-95F8-4252-8B26-6DC155DE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05225-56CD-404D-B371-905D762A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333EC-D931-4D6F-8C0C-62DE230A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09478-B4E0-4584-8986-100A1C53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172BC8-FB93-4967-AB86-ED182D36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35AF6A-6EC7-4D4F-9679-8E04F63A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DB272C-5BDF-4703-87A7-2B2ACC34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F670F3-3BE0-453F-B8AC-1B0EF26C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4763B0-3E67-4CA4-BEBD-37DA17AA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CF3B4E-BB54-4053-8F59-A08B1769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632BD4-D2B1-4D2B-9EF5-E569DA89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C81B2D-E431-477E-A120-D0438E41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946F66-174D-4410-BB72-098C6B4E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7A19C1-A4DF-4A05-82D9-3AC7ACA9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CA28CA-35BA-49A6-A9C2-150CE4F9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255DCE-F276-4D02-B55E-FAFCF99F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5D4941-85B2-4DDA-817B-ED1FF239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8E5A25-92CF-4954-A8E2-6E494752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A71A2F-A3F5-4F4E-92C2-A5888487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7ED5-33CC-45AF-88F2-6B024D11E00F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FED6-E855-44B9-9F40-165145961F6E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29E0-DBE3-41D9-B93A-3187DB71DD3D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5640-1B66-44E7-8FDC-F94AD42E9012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B18A-BB5E-40EE-B498-783CC73F1002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32C9-B60A-429D-B885-0BAD55C7C618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A3F8-8DC9-4E8B-934F-3F513DC34BB4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40EE-27E9-403C-A09D-2337AC791E48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41A2-719E-4B64-AA3E-EE6DA7DC032A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D501-38D1-486E-B58B-399A2FA7A0B5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S2 Grammar Quiz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omic Sans MS"/>
              </a:rPr>
              <a:t>Y3 To understand how words are related in form and mea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Ques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4: Which of these words have ‘kind’ as the root word?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Content Placeholder 2"/>
          <p:cNvSpPr/>
          <p:nvPr/>
        </p:nvSpPr>
        <p:spPr>
          <a:xfrm>
            <a:off x="758880" y="4159080"/>
            <a:ext cx="7628040" cy="719280"/>
          </a:xfrm>
          <a:prstGeom prst="rect">
            <a:avLst/>
          </a:prstGeom>
          <a:solidFill>
            <a:srgbClr val="e6b9b8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un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k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ontent Placeholder 2"/>
          <p:cNvSpPr/>
          <p:nvPr/>
        </p:nvSpPr>
        <p:spPr>
          <a:xfrm>
            <a:off x="758880" y="5300640"/>
            <a:ext cx="7628040" cy="7192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kind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ontent Placeholder 2"/>
          <p:cNvSpPr/>
          <p:nvPr/>
        </p:nvSpPr>
        <p:spPr>
          <a:xfrm>
            <a:off x="777960" y="1825560"/>
            <a:ext cx="7629480" cy="71928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kind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5: Which words in the ‘real’ word family can you lis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5: Which words in the ‘real’ word family can you lis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Content Placeholder 2"/>
          <p:cNvSpPr/>
          <p:nvPr/>
        </p:nvSpPr>
        <p:spPr>
          <a:xfrm>
            <a:off x="777960" y="1825560"/>
            <a:ext cx="2498760" cy="71928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rea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ontent Placeholder 2"/>
          <p:cNvSpPr/>
          <p:nvPr/>
        </p:nvSpPr>
        <p:spPr>
          <a:xfrm>
            <a:off x="777960" y="2930400"/>
            <a:ext cx="2498760" cy="71928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un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rea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ontent Placeholder 2"/>
          <p:cNvSpPr/>
          <p:nvPr/>
        </p:nvSpPr>
        <p:spPr>
          <a:xfrm>
            <a:off x="777960" y="3954600"/>
            <a:ext cx="2498760" cy="71892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rea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ontent Placeholder 2"/>
          <p:cNvSpPr/>
          <p:nvPr/>
        </p:nvSpPr>
        <p:spPr>
          <a:xfrm>
            <a:off x="777960" y="5229360"/>
            <a:ext cx="2498760" cy="71892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rea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tent Placeholder 2"/>
          <p:cNvSpPr/>
          <p:nvPr/>
        </p:nvSpPr>
        <p:spPr>
          <a:xfrm>
            <a:off x="4211640" y="1825560"/>
            <a:ext cx="2498760" cy="71928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rea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ontent Placeholder 2"/>
          <p:cNvSpPr/>
          <p:nvPr/>
        </p:nvSpPr>
        <p:spPr>
          <a:xfrm>
            <a:off x="4219560" y="2943360"/>
            <a:ext cx="2498760" cy="71892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rea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ontent Placeholder 2"/>
          <p:cNvSpPr/>
          <p:nvPr/>
        </p:nvSpPr>
        <p:spPr>
          <a:xfrm>
            <a:off x="4219560" y="3962520"/>
            <a:ext cx="2800440" cy="71892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rea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stic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ontent Placeholder 2"/>
          <p:cNvSpPr/>
          <p:nvPr/>
        </p:nvSpPr>
        <p:spPr>
          <a:xfrm>
            <a:off x="4219560" y="5127480"/>
            <a:ext cx="3160800" cy="71928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un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rea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stic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ontent Placeholder 2"/>
          <p:cNvSpPr/>
          <p:nvPr/>
        </p:nvSpPr>
        <p:spPr>
          <a:xfrm>
            <a:off x="7020000" y="1824120"/>
            <a:ext cx="1944720" cy="71892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rea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6: Which of these root words means ‘honourable’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Content Placeholder 2"/>
          <p:cNvSpPr/>
          <p:nvPr/>
        </p:nvSpPr>
        <p:spPr>
          <a:xfrm>
            <a:off x="757080" y="2930400"/>
            <a:ext cx="7629840" cy="719280"/>
          </a:xfrm>
          <a:prstGeom prst="rect">
            <a:avLst/>
          </a:prstGeom>
          <a:solidFill>
            <a:srgbClr val="d7e4bd"/>
          </a:solidFill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h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ontent Placeholder 2"/>
          <p:cNvSpPr/>
          <p:nvPr/>
        </p:nvSpPr>
        <p:spPr>
          <a:xfrm>
            <a:off x="758880" y="4159080"/>
            <a:ext cx="7628040" cy="719280"/>
          </a:xfrm>
          <a:prstGeom prst="rect">
            <a:avLst/>
          </a:prstGeom>
          <a:solidFill>
            <a:srgbClr val="e6b9b8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ontent Placeholder 2"/>
          <p:cNvSpPr/>
          <p:nvPr/>
        </p:nvSpPr>
        <p:spPr>
          <a:xfrm>
            <a:off x="758880" y="5300640"/>
            <a:ext cx="7628040" cy="7192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ontent Placeholder 2"/>
          <p:cNvSpPr/>
          <p:nvPr/>
        </p:nvSpPr>
        <p:spPr>
          <a:xfrm>
            <a:off x="777960" y="1825560"/>
            <a:ext cx="7629480" cy="71928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hon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6: Which of these root words means ‘honourable’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Content Placeholder 2"/>
          <p:cNvSpPr/>
          <p:nvPr/>
        </p:nvSpPr>
        <p:spPr>
          <a:xfrm>
            <a:off x="777960" y="1825560"/>
            <a:ext cx="7629480" cy="71928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hon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7: Which of these words have ‘sign’ as the root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Content Placeholder 2"/>
          <p:cNvSpPr/>
          <p:nvPr/>
        </p:nvSpPr>
        <p:spPr>
          <a:xfrm>
            <a:off x="757080" y="2930400"/>
            <a:ext cx="7629840" cy="719280"/>
          </a:xfrm>
          <a:prstGeom prst="rect">
            <a:avLst/>
          </a:prstGeom>
          <a:solidFill>
            <a:srgbClr val="d7e4bd"/>
          </a:solidFill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s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tent Placeholder 2"/>
          <p:cNvSpPr/>
          <p:nvPr/>
        </p:nvSpPr>
        <p:spPr>
          <a:xfrm>
            <a:off x="758880" y="4159080"/>
            <a:ext cx="7628040" cy="719280"/>
          </a:xfrm>
          <a:prstGeom prst="rect">
            <a:avLst/>
          </a:prstGeom>
          <a:solidFill>
            <a:srgbClr val="e6b9b8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ontent Placeholder 2"/>
          <p:cNvSpPr/>
          <p:nvPr/>
        </p:nvSpPr>
        <p:spPr>
          <a:xfrm>
            <a:off x="758880" y="5300640"/>
            <a:ext cx="7628040" cy="7192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ign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ontent Placeholder 2"/>
          <p:cNvSpPr/>
          <p:nvPr/>
        </p:nvSpPr>
        <p:spPr>
          <a:xfrm>
            <a:off x="777960" y="1825560"/>
            <a:ext cx="7629480" cy="71928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7: Which of these words have ‘sign’ as the root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Content Placeholder 2"/>
          <p:cNvSpPr/>
          <p:nvPr/>
        </p:nvSpPr>
        <p:spPr>
          <a:xfrm>
            <a:off x="755640" y="2963880"/>
            <a:ext cx="7629480" cy="719280"/>
          </a:xfrm>
          <a:prstGeom prst="rect">
            <a:avLst/>
          </a:prstGeom>
          <a:solidFill>
            <a:srgbClr val="d7e4bd"/>
          </a:solidFill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s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ontent Placeholder 2"/>
          <p:cNvSpPr/>
          <p:nvPr/>
        </p:nvSpPr>
        <p:spPr>
          <a:xfrm>
            <a:off x="758880" y="4159080"/>
            <a:ext cx="7628040" cy="719280"/>
          </a:xfrm>
          <a:prstGeom prst="rect">
            <a:avLst/>
          </a:prstGeom>
          <a:solidFill>
            <a:srgbClr val="e6b9b8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de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tent Placeholder 2"/>
          <p:cNvSpPr/>
          <p:nvPr/>
        </p:nvSpPr>
        <p:spPr>
          <a:xfrm>
            <a:off x="758880" y="5300640"/>
            <a:ext cx="7628040" cy="7192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sign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Content Placeholder 2"/>
          <p:cNvSpPr/>
          <p:nvPr/>
        </p:nvSpPr>
        <p:spPr>
          <a:xfrm>
            <a:off x="777960" y="1825560"/>
            <a:ext cx="7629480" cy="71928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sign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8: Which root word means ‘to write’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Content Placeholder 2"/>
          <p:cNvSpPr/>
          <p:nvPr/>
        </p:nvSpPr>
        <p:spPr>
          <a:xfrm>
            <a:off x="757080" y="2930400"/>
            <a:ext cx="7629840" cy="719280"/>
          </a:xfrm>
          <a:prstGeom prst="rect">
            <a:avLst/>
          </a:prstGeom>
          <a:solidFill>
            <a:srgbClr val="d7e4bd"/>
          </a:solidFill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cri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ontent Placeholder 2"/>
          <p:cNvSpPr/>
          <p:nvPr/>
        </p:nvSpPr>
        <p:spPr>
          <a:xfrm>
            <a:off x="758880" y="4159080"/>
            <a:ext cx="7628040" cy="719280"/>
          </a:xfrm>
          <a:prstGeom prst="rect">
            <a:avLst/>
          </a:prstGeom>
          <a:solidFill>
            <a:srgbClr val="e6b9b8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crim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ontent Placeholder 2"/>
          <p:cNvSpPr/>
          <p:nvPr/>
        </p:nvSpPr>
        <p:spPr>
          <a:xfrm>
            <a:off x="758880" y="5356080"/>
            <a:ext cx="7628040" cy="7192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penc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ontent Placeholder 2"/>
          <p:cNvSpPr/>
          <p:nvPr/>
        </p:nvSpPr>
        <p:spPr>
          <a:xfrm>
            <a:off x="757080" y="1795320"/>
            <a:ext cx="7629840" cy="71928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8: Which root word means ‘to write’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Content Placeholder 2"/>
          <p:cNvSpPr/>
          <p:nvPr/>
        </p:nvSpPr>
        <p:spPr>
          <a:xfrm>
            <a:off x="757080" y="2930400"/>
            <a:ext cx="7629840" cy="719280"/>
          </a:xfrm>
          <a:prstGeom prst="rect">
            <a:avLst/>
          </a:prstGeom>
          <a:solidFill>
            <a:srgbClr val="d7e4bd"/>
          </a:solidFill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cri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9: What is the root word in these sentenc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Content Placeholder 2"/>
          <p:cNvSpPr/>
          <p:nvPr/>
        </p:nvSpPr>
        <p:spPr>
          <a:xfrm>
            <a:off x="757080" y="2922480"/>
            <a:ext cx="7629840" cy="1143000"/>
          </a:xfrm>
          <a:prstGeom prst="rect">
            <a:avLst/>
          </a:prstGeom>
          <a:solidFill>
            <a:srgbClr val="d7e4bd"/>
          </a:solidFill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instructions were clear – turn left at the first signpost and when the road disappears, go straight a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ontent Placeholder 2"/>
          <p:cNvSpPr/>
          <p:nvPr/>
        </p:nvSpPr>
        <p:spPr>
          <a:xfrm>
            <a:off x="758880" y="4159080"/>
            <a:ext cx="7628040" cy="719280"/>
          </a:xfrm>
          <a:prstGeom prst="rect">
            <a:avLst/>
          </a:prstGeom>
          <a:solidFill>
            <a:srgbClr val="e6b9b8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old man’s kindliness was immeasu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Content Placeholder 2"/>
          <p:cNvSpPr/>
          <p:nvPr/>
        </p:nvSpPr>
        <p:spPr>
          <a:xfrm>
            <a:off x="758880" y="5300640"/>
            <a:ext cx="7628040" cy="93672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agreement was reached but sadly it was broken by the disobedience of the child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Content Placeholder 2"/>
          <p:cNvSpPr/>
          <p:nvPr/>
        </p:nvSpPr>
        <p:spPr>
          <a:xfrm>
            <a:off x="757080" y="1795320"/>
            <a:ext cx="7629840" cy="90360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ven though the description was unkind, the replacement teacher was a very pleasant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acher Instruc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his quick quiz contains 10 questio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he question slide is followed by the answer slid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it is designed to be used following the teaching of word families for retrieval practi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it links to our teaching PowerPoint for word famili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it could be used to assess pupil knowledge prior to teach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it could be used as a starter activit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9: What is the root word in these sentenc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Content Placeholder 2"/>
          <p:cNvSpPr/>
          <p:nvPr/>
        </p:nvSpPr>
        <p:spPr>
          <a:xfrm>
            <a:off x="757080" y="2922480"/>
            <a:ext cx="7629840" cy="1143000"/>
          </a:xfrm>
          <a:prstGeom prst="rect">
            <a:avLst/>
          </a:prstGeom>
          <a:solidFill>
            <a:srgbClr val="d7e4bd"/>
          </a:solidFill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instructions were clear – turn left at the first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sig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st and when the road dis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appea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, go straight a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hea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Content Placeholder 2"/>
          <p:cNvSpPr/>
          <p:nvPr/>
        </p:nvSpPr>
        <p:spPr>
          <a:xfrm>
            <a:off x="758880" y="4159080"/>
            <a:ext cx="7628040" cy="719280"/>
          </a:xfrm>
          <a:prstGeom prst="rect">
            <a:avLst/>
          </a:prstGeom>
          <a:solidFill>
            <a:srgbClr val="e6b9b8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old man’s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kin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iness was im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measu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ontent Placeholder 2"/>
          <p:cNvSpPr/>
          <p:nvPr/>
        </p:nvSpPr>
        <p:spPr>
          <a:xfrm>
            <a:off x="758880" y="5300640"/>
            <a:ext cx="7628040" cy="93672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agre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ent was reached but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sa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y it was broken by the dis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ob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ience of the child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ontent Placeholder 2"/>
          <p:cNvSpPr/>
          <p:nvPr/>
        </p:nvSpPr>
        <p:spPr>
          <a:xfrm>
            <a:off x="757080" y="1795320"/>
            <a:ext cx="7629840" cy="90360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ven though the de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scrip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ion was un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kin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, the re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plac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ent teacher was a very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plea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t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10: Which root word means ‘pleasing’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Content Placeholder 2"/>
          <p:cNvSpPr/>
          <p:nvPr/>
        </p:nvSpPr>
        <p:spPr>
          <a:xfrm>
            <a:off x="757080" y="2930400"/>
            <a:ext cx="7629840" cy="719280"/>
          </a:xfrm>
          <a:prstGeom prst="rect">
            <a:avLst/>
          </a:prstGeom>
          <a:solidFill>
            <a:srgbClr val="d7e4bd"/>
          </a:solidFill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ontent Placeholder 2"/>
          <p:cNvSpPr/>
          <p:nvPr/>
        </p:nvSpPr>
        <p:spPr>
          <a:xfrm>
            <a:off x="746280" y="1892160"/>
            <a:ext cx="7629480" cy="719280"/>
          </a:xfrm>
          <a:prstGeom prst="rect">
            <a:avLst/>
          </a:prstGeom>
          <a:solidFill>
            <a:srgbClr val="fac090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pl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ontent Placeholder 2"/>
          <p:cNvSpPr/>
          <p:nvPr/>
        </p:nvSpPr>
        <p:spPr>
          <a:xfrm>
            <a:off x="777960" y="3968640"/>
            <a:ext cx="7629480" cy="719280"/>
          </a:xfrm>
          <a:prstGeom prst="rect">
            <a:avLst/>
          </a:prstGeom>
          <a:solidFill>
            <a:srgbClr val="d99694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pp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ontent Placeholder 2"/>
          <p:cNvSpPr/>
          <p:nvPr/>
        </p:nvSpPr>
        <p:spPr>
          <a:xfrm>
            <a:off x="787320" y="5095800"/>
            <a:ext cx="7629480" cy="719280"/>
          </a:xfrm>
          <a:prstGeom prst="rect">
            <a:avLst/>
          </a:prstGeom>
          <a:solidFill>
            <a:srgbClr val="93cddd"/>
          </a:solidFill>
          <a:ln w="381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grate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10: Which root word means ‘pleasing’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Content Placeholder 2"/>
          <p:cNvSpPr/>
          <p:nvPr/>
        </p:nvSpPr>
        <p:spPr>
          <a:xfrm>
            <a:off x="757080" y="2930400"/>
            <a:ext cx="7629840" cy="719280"/>
          </a:xfrm>
          <a:prstGeom prst="rect">
            <a:avLst/>
          </a:prstGeom>
          <a:solidFill>
            <a:srgbClr val="d7e4bd"/>
          </a:solidFill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Question 1: What is a word famil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Content Placeholder 2"/>
          <p:cNvSpPr/>
          <p:nvPr/>
        </p:nvSpPr>
        <p:spPr>
          <a:xfrm>
            <a:off x="757080" y="2930400"/>
            <a:ext cx="7629840" cy="719280"/>
          </a:xfrm>
          <a:prstGeom prst="rect">
            <a:avLst/>
          </a:prstGeom>
          <a:solidFill>
            <a:srgbClr val="d7e4bd"/>
          </a:solidFill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group of words that share a root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ontent Placeholder 2"/>
          <p:cNvSpPr/>
          <p:nvPr/>
        </p:nvSpPr>
        <p:spPr>
          <a:xfrm>
            <a:off x="758880" y="4159080"/>
            <a:ext cx="7628040" cy="719280"/>
          </a:xfrm>
          <a:prstGeom prst="rect">
            <a:avLst/>
          </a:prstGeom>
          <a:solidFill>
            <a:srgbClr val="e6b9b8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group of words which have the same vowels in the middle Eg neat; meat; s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Content Placeholder 2"/>
          <p:cNvSpPr/>
          <p:nvPr/>
        </p:nvSpPr>
        <p:spPr>
          <a:xfrm>
            <a:off x="758880" y="5300640"/>
            <a:ext cx="7628040" cy="7192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group of words that use the same prefix Eg prepare; pretend;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Content Placeholder 2"/>
          <p:cNvSpPr/>
          <p:nvPr/>
        </p:nvSpPr>
        <p:spPr>
          <a:xfrm>
            <a:off x="777960" y="1825560"/>
            <a:ext cx="7629480" cy="71928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word family is all the words used to describe a family EG father, sister; cou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Question 1: What is a word famil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Content Placeholder 2"/>
          <p:cNvSpPr/>
          <p:nvPr/>
        </p:nvSpPr>
        <p:spPr>
          <a:xfrm>
            <a:off x="757080" y="2930400"/>
            <a:ext cx="7629840" cy="719280"/>
          </a:xfrm>
          <a:prstGeom prst="rect">
            <a:avLst/>
          </a:prstGeom>
          <a:solidFill>
            <a:srgbClr val="d7e4bd"/>
          </a:solidFill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group of words that share a root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2: How is a root word changed to make other words in the famil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Content Placeholder 2"/>
          <p:cNvSpPr/>
          <p:nvPr/>
        </p:nvSpPr>
        <p:spPr>
          <a:xfrm>
            <a:off x="757080" y="2930400"/>
            <a:ext cx="7629840" cy="719280"/>
          </a:xfrm>
          <a:prstGeom prst="rect">
            <a:avLst/>
          </a:prstGeom>
          <a:solidFill>
            <a:srgbClr val="d7e4bd"/>
          </a:solidFill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root word only  has prefixe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Content Placeholder 2"/>
          <p:cNvSpPr/>
          <p:nvPr/>
        </p:nvSpPr>
        <p:spPr>
          <a:xfrm>
            <a:off x="758880" y="4159080"/>
            <a:ext cx="7628040" cy="719280"/>
          </a:xfrm>
          <a:prstGeom prst="rect">
            <a:avLst/>
          </a:prstGeom>
          <a:solidFill>
            <a:srgbClr val="e6b9b8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root word only has suffixe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Content Placeholder 2"/>
          <p:cNvSpPr/>
          <p:nvPr/>
        </p:nvSpPr>
        <p:spPr>
          <a:xfrm>
            <a:off x="758880" y="5300640"/>
            <a:ext cx="7628040" cy="7192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root word has prefixes and/or suffixe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Content Placeholder 2"/>
          <p:cNvSpPr/>
          <p:nvPr/>
        </p:nvSpPr>
        <p:spPr>
          <a:xfrm>
            <a:off x="777960" y="1825560"/>
            <a:ext cx="7629480" cy="71928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root word is put in the middle of some other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2: How is a root word changed to make other words in the famil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Content Placeholder 2"/>
          <p:cNvSpPr/>
          <p:nvPr/>
        </p:nvSpPr>
        <p:spPr>
          <a:xfrm>
            <a:off x="758880" y="5300640"/>
            <a:ext cx="7628040" cy="7192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root word has prefixes and/or suffixe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3: What is the root word in these sentenc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Content Placeholder 2"/>
          <p:cNvSpPr/>
          <p:nvPr/>
        </p:nvSpPr>
        <p:spPr>
          <a:xfrm>
            <a:off x="757080" y="2930400"/>
            <a:ext cx="7629840" cy="719280"/>
          </a:xfrm>
          <a:prstGeom prst="rect">
            <a:avLst/>
          </a:prstGeom>
          <a:solidFill>
            <a:srgbClr val="d7e4bd"/>
          </a:solidFill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 have misplaced my 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Content Placeholder 2"/>
          <p:cNvSpPr/>
          <p:nvPr/>
        </p:nvSpPr>
        <p:spPr>
          <a:xfrm>
            <a:off x="758880" y="4159080"/>
            <a:ext cx="7628040" cy="719280"/>
          </a:xfrm>
          <a:prstGeom prst="rect">
            <a:avLst/>
          </a:prstGeom>
          <a:solidFill>
            <a:srgbClr val="e6b9b8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replacement engine is an improvement on the old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ontent Placeholder 2"/>
          <p:cNvSpPr/>
          <p:nvPr/>
        </p:nvSpPr>
        <p:spPr>
          <a:xfrm>
            <a:off x="758880" y="5300640"/>
            <a:ext cx="7628040" cy="7192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placement of the punctuation in a sentence is ver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ontent Placeholder 2"/>
          <p:cNvSpPr/>
          <p:nvPr/>
        </p:nvSpPr>
        <p:spPr>
          <a:xfrm>
            <a:off x="777960" y="1825560"/>
            <a:ext cx="7629480" cy="71928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Replace the broken cup with a new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3: What is the root word in these sentenc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Content Placeholder 2"/>
          <p:cNvSpPr/>
          <p:nvPr/>
        </p:nvSpPr>
        <p:spPr>
          <a:xfrm>
            <a:off x="757080" y="2930400"/>
            <a:ext cx="7629840" cy="719280"/>
          </a:xfrm>
          <a:prstGeom prst="rect">
            <a:avLst/>
          </a:prstGeom>
          <a:solidFill>
            <a:srgbClr val="d7e4bd"/>
          </a:solidFill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 have mis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plac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 my 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Content Placeholder 2"/>
          <p:cNvSpPr/>
          <p:nvPr/>
        </p:nvSpPr>
        <p:spPr>
          <a:xfrm>
            <a:off x="758880" y="4159080"/>
            <a:ext cx="7628040" cy="719280"/>
          </a:xfrm>
          <a:prstGeom prst="rect">
            <a:avLst/>
          </a:prstGeom>
          <a:solidFill>
            <a:srgbClr val="e6b9b8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re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plac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ent engine is an improvement on the old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Content Placeholder 2"/>
          <p:cNvSpPr/>
          <p:nvPr/>
        </p:nvSpPr>
        <p:spPr>
          <a:xfrm>
            <a:off x="758880" y="5300640"/>
            <a:ext cx="7628040" cy="7192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plac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ent of the punctuation in a sentence is ver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Content Placeholder 2"/>
          <p:cNvSpPr/>
          <p:nvPr/>
        </p:nvSpPr>
        <p:spPr>
          <a:xfrm>
            <a:off x="777960" y="1825560"/>
            <a:ext cx="7629480" cy="71928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Re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plac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the broken cup with a new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7720" y="42840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 4: Which of these words have ‘kind’ as the root word?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Content Placeholder 2"/>
          <p:cNvSpPr/>
          <p:nvPr/>
        </p:nvSpPr>
        <p:spPr>
          <a:xfrm>
            <a:off x="757080" y="2930400"/>
            <a:ext cx="7629840" cy="719280"/>
          </a:xfrm>
          <a:prstGeom prst="rect">
            <a:avLst/>
          </a:prstGeom>
          <a:solidFill>
            <a:srgbClr val="d7e4bd"/>
          </a:solidFill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kin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Content Placeholder 2"/>
          <p:cNvSpPr/>
          <p:nvPr/>
        </p:nvSpPr>
        <p:spPr>
          <a:xfrm>
            <a:off x="758880" y="4159080"/>
            <a:ext cx="7628040" cy="719280"/>
          </a:xfrm>
          <a:prstGeom prst="rect">
            <a:avLst/>
          </a:prstGeom>
          <a:solidFill>
            <a:srgbClr val="e6b9b8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unk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ontent Placeholder 2"/>
          <p:cNvSpPr/>
          <p:nvPr/>
        </p:nvSpPr>
        <p:spPr>
          <a:xfrm>
            <a:off x="758880" y="5300640"/>
            <a:ext cx="7628040" cy="7192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kin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ontent Placeholder 2"/>
          <p:cNvSpPr/>
          <p:nvPr/>
        </p:nvSpPr>
        <p:spPr>
          <a:xfrm>
            <a:off x="777960" y="1825560"/>
            <a:ext cx="7629480" cy="719280"/>
          </a:xfrm>
          <a:prstGeom prst="rect">
            <a:avLst/>
          </a:prstGeom>
          <a:solidFill>
            <a:srgbClr val="fcd5b5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kind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1T10:27:10Z</dcterms:created>
  <dc:creator>Anne</dc:creator>
  <dc:description/>
  <dc:language>en-US</dc:language>
  <cp:lastModifiedBy>Anne</cp:lastModifiedBy>
  <dcterms:modified xsi:type="dcterms:W3CDTF">2021-11-29T10:34:58Z</dcterms:modified>
  <cp:revision>17</cp:revision>
  <dc:subject/>
  <dc:title>Slide 1</dc:title>
</cp:coreProperties>
</file>