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629-0FB4-47D2-88D6-E7FE0B6D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70A-1184-41DC-BED5-A5CF167D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F56-180F-40EC-A73C-0CFC7CC1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7AC-601B-48D0-83CC-7101CD99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EB9F-A789-4282-AB5D-D67E171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9F2-A784-48E8-AACE-C9B900E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E61-6100-417F-922A-DFDDCD8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50B-F5AD-41E4-9F6A-E1ABE97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E6D-52EC-4931-B395-3702A42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927-1358-4CFB-A785-24A1BC54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84D-E71D-4905-8967-2DA8A9E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9BB-91C9-4501-A35C-2F2A7A5B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99DF-7826-448D-B280-FE9110A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DE2-406C-4DBE-8792-6734589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8D8B-35BC-475B-80EB-D9A6F48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9BE-7BE0-44A9-870A-0EFD2838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37F5-C90B-481F-98EC-A776B48C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8F5D-1A20-407B-974B-0B19C0E5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DE60-BBAE-4948-A516-86757EA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CEAA-31DC-4AD6-B4F4-BE4E7F9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D0BA-F177-4AC6-9C8A-A408C2A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6F76-99A7-4191-B961-96B5D77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256-5378-45B1-BC6F-98039AA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CC2C-E8DB-40E1-832A-AA40AC95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1811-EDA7-4101-B823-004253A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C861-1E0B-438F-8C44-2B2C534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969C-8B98-44A4-9C1C-3E4A16F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FE27-03F6-4006-B7BD-B0A4E0E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B895-AE4D-4037-8376-FFD805C5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B283-5338-487F-AFF0-B0B15EC6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401D-0718-468D-A80F-422AEE12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E1C5-A5A2-4C50-8CB0-A9BEBE00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9E03-0E2B-48BE-B03D-EBE6EF0D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480-55DF-4261-9498-0D26CB5F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6C93-1A8D-4BFD-A5DF-E86FA8A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6DF7-42F1-4CF5-AC4A-64C8DF6A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C970-D496-4C35-B8B2-CFC7F76C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5ED9-FE5A-4439-B8E8-795739B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B390-29FA-4F69-9605-ED2BFFE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548A-4754-4B79-926F-F78B9A7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49CB-3EC6-42DC-BE02-4225D5C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9B4E-3736-4B30-99A9-2BC6F65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E470-767F-4489-910E-E2147CF2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F355-1FA6-45FE-A4E3-1BED2D52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D09-FEE8-437D-A4FF-A5525E4F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6510-FA61-4309-BD37-F1AB3093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D3E1-8019-4BAB-BF8C-879B579E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0AA5-C56C-4BAB-9377-3616240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7D4A-E4C2-4805-96E1-6B4F269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C73A-2C85-49AB-AE6E-7FF22588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940E-0385-4002-B1D7-B4C820C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701B-BBE8-41C3-A079-54BAC15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E010-F667-4543-A35E-3E00EE8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A907-B298-4F83-A7B9-C48183D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8300-3AC2-4B88-9D3E-A1ED2BC5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7E3-B492-4DE6-AC38-D55FFF0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5BEC-B110-4D1C-9B4A-EBA38652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14F-32F7-4D12-81DA-53DD7F7D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44C-EE5B-41E2-AF79-13722A5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A9-E6F4-4CDA-921D-E9D4E1E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12A-2C8B-4079-A6DE-35E4886B7C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B32-B4FF-4CCC-A092-08AE3EFE84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020-37D2-4051-9C73-9C2BEA1DF0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4B1-A7FE-416F-B836-BCC8F6ADA2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66BA-524E-4851-ACBE-31FBCE127C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3/4 Spelling Quiz 17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ding prefix dis and m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your _______ to have chosen the scariest d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fore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fou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I don’t keep hold of my glasses, I know I will _____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pla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pla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________ my instru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s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undu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sundu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s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was a thoroughly _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do not train your dog it will _____ you 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lowly the sun began to ______ over the hori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______ with someone, you should respect their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______ that I will win the lot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c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und the corner there was a most ____ sight – an enormous doughn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ew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us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dly, the girl was _____ because her twin sister had won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m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h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5T10:35:04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